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media/image55.jpeg" ContentType="image/jpeg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34.wmf" ContentType="image/x-wmf"/>
  <Override PartName="/ppt/media/image33.wmf" ContentType="image/x-wmf"/>
  <Override PartName="/ppt/media/image14.jpeg" ContentType="image/jpeg"/>
  <Override PartName="/ppt/media/image3.wmf" ContentType="image/x-wmf"/>
  <Override PartName="/ppt/media/image15.wmf" ContentType="image/x-wmf"/>
  <Override PartName="/ppt/media/image58.png" ContentType="image/png"/>
  <Override PartName="/ppt/media/image61.wmf" ContentType="image/x-wmf"/>
  <Override PartName="/ppt/media/image1.png" ContentType="image/png"/>
  <Override PartName="/ppt/media/image29.wmf" ContentType="image/x-wmf"/>
  <Override PartName="/ppt/media/image4.wmf" ContentType="image/x-wmf"/>
  <Override PartName="/ppt/media/image16.wmf" ContentType="image/x-wmf"/>
  <Override PartName="/ppt/media/image57.png" ContentType="image/png"/>
  <Override PartName="/ppt/media/image60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59.jpeg" ContentType="image/jpe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7EB-9E4A-4FC9-AB73-C7038A1F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AA8-F266-444D-8AE2-F4377E0F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A4D-A403-43B1-90DE-F9C28E24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699-F4C7-42C9-B516-3782A0CF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F826-F499-46C8-BD9E-125A4AA5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49A0-AE08-4309-84B7-540B33F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0FBC-6CE8-40AF-8B8A-88A91E4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F22-5824-4275-9FE1-B6ED0808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FCC4-95EF-4CB1-8F18-03E41A47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1C7-1D7D-4A69-B987-C6AFE275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BA8E-5B89-4E71-9654-F368860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4CF-3CA8-49BD-87C6-037E5F2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64E2-37BC-4989-BE9D-1917C31B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CBD-DF09-43FB-9349-610AE23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406-BF1F-47E9-9A4F-24E0A90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2BD-55CC-4536-91F4-E8466E17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C15-B87F-4659-B15C-85791F39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C4D-68FB-484F-B87B-3BDC609C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7ED-0D06-4CEF-89D3-95F3FDB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731-98A3-4065-8792-C6F8E0A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445-6488-42C0-9F57-58FEB042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3A9-1317-440E-9019-7FC57F2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5CD-D0DB-4713-B44D-B19D57D4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479-AB84-40CF-87D6-00CABC3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9228-EE78-4FB0-96D5-6E958BC942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5B94-45CA-4608-BFF1-5705EF759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wseas.org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ochastic Analysis of Nonlinear Biological and Ecological Proces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-Yin C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ment of Chemical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Mississip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fu Island, Gree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17,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nary L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Conference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Biology and Ec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Scientific and Engineering Academy and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43800" y="2514600"/>
          <a:ext cx="83808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514600"/>
                    <a:ext cx="8380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logotype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2819520"/>
          <a:ext cx="4379760" cy="88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43797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0240" y="365760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m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  gain   -  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1720" y="228600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bility balance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4419720"/>
          <a:ext cx="609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41972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03880" y="4419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419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s the transition probability from state n’ to n per unit time, a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and n’ can be either scalars or vectors – depending on how the state i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 equations govern the inherent internal noises (fluctuations, uncertainties) caused by the discrete nature of the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al noises provide the minimum fluctuations that will be observed – additional experiments will not reduce these uncertainties in measu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lgorithm has been developed by Oppenhei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1977; Nicolis and Prigogine, 1977; Haken, 1983; Gardiner, 1985; van Kampen, 200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has been applied to biological systems by Hill (1977), Chiang (1980), and Kimura (1994); most of these works, however, are for linear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ll elements of      are linear functions of n, the master equation is considered 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of nonlinear master equations can be approximated by system-size expansion (van Kampen, 1976, 200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-size expansion is a linearization approximation procedure based on power-series expansion of     , because the standard deviation of the fluctuation is inversely proportional to this expansion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505320" y="4724280"/>
          <a:ext cx="38088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724280"/>
                    <a:ext cx="38088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572000" y="2057400"/>
          <a:ext cx="457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057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42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-size expansion procedure yields the equations governing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ment (macroscopic)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ments of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quation governing the second moments is a linear Fokker-Planck equation that can be solved by averaging techni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dure render it possible to circumvent the simplified assumption of linearity imposed in the majority of the past wo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kker-Planck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amers-Moyer expansion – converted from the master equ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kker-Planck equation – truncated Kramers-Moyer equ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3276720"/>
          <a:ext cx="45720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76720"/>
                    <a:ext cx="45720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600200" y="5410080"/>
          <a:ext cx="54864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410080"/>
                    <a:ext cx="5486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kker-Planck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kker-Planck equation is a truncated master eq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    is a linear function of    and if     is independent of   , then the Fokker-Planck equation is called line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81080" y="3505320"/>
          <a:ext cx="685800" cy="54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505320"/>
                    <a:ext cx="6858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553080" y="3581280"/>
          <a:ext cx="3049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5812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153280" y="3429000"/>
          <a:ext cx="549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3429000"/>
                    <a:ext cx="549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800600" y="4191120"/>
          <a:ext cx="3049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19112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kker-Planck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nstein-Uhlenbeck process (linear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figure1" descr=""/>
          <p:cNvPicPr/>
          <p:nvPr/>
        </p:nvPicPr>
        <p:blipFill>
          <a:blip r:embed="rId1"/>
          <a:stretch/>
        </p:blipFill>
        <p:spPr>
          <a:xfrm>
            <a:off x="0" y="2514600"/>
            <a:ext cx="4267080" cy="33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657600" y="2590920"/>
          <a:ext cx="3886200" cy="5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90920"/>
                    <a:ext cx="38862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0400" y="3809880"/>
          <a:ext cx="5791320" cy="82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09880"/>
                    <a:ext cx="5791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5867280"/>
          <a:ext cx="1447920" cy="33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5867280"/>
                    <a:ext cx="14479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133720" y="5867280"/>
          <a:ext cx="533160" cy="23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867280"/>
                    <a:ext cx="5331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286440" y="350532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 is a Ga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kker-Planck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 of a linear Fokker-Planck equations involves Gaussian distribu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ations governi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ments of a linear Fokker-Planck equation can be derived by taking moments – will be illustrated by exampl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linear Fokker-Planck equations are difficult to solve, see Risken (1996) and Grasman and van Herwaarden (1999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       denotes the macroscopic characteristics of the system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the external, discontinuous noise, an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the effects of the interactions of the noise and the system on the output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733920" y="2057400"/>
          <a:ext cx="350496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35049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209680" y="2743200"/>
          <a:ext cx="6098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743200"/>
                    <a:ext cx="609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43000" y="5029200"/>
          <a:ext cx="5335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50292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43000" y="3886200"/>
          <a:ext cx="60948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886200"/>
                    <a:ext cx="6094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s of biological and ecological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 stochastic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-equation algorithm and system-size expa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2120" y="2971800"/>
          <a:ext cx="7772400" cy="33526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gevin eq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function of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si-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linear function of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 of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62120" y="20574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ity of a Langevin equation is mathematically consistent with those of the master and F-P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343400" y="3124080"/>
          <a:ext cx="60948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124080"/>
                    <a:ext cx="609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934320" y="3124080"/>
          <a:ext cx="6094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1240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hite noise,      , is a source of complexity due to its discontinu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me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or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191120" y="2209680"/>
          <a:ext cx="6858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09680"/>
                    <a:ext cx="6858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143000" y="3505320"/>
          <a:ext cx="685800" cy="51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6858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143000" y="4114800"/>
          <a:ext cx="23623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14800"/>
                    <a:ext cx="23623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143000" y="4876920"/>
          <a:ext cx="31240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76920"/>
                    <a:ext cx="3124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ments of     of a linear Langevin equation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 is a const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ove operation converts a linear Langevin eq. to a linear F-K eq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3352680"/>
          <a:ext cx="48006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352680"/>
                    <a:ext cx="4800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391520" y="2133720"/>
          <a:ext cx="4982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133720"/>
                    <a:ext cx="498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ments of     of a quasi-linear Langevin equation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ove operation converts a quasi-linear Langevin eq. to a F-K eq. which linearity depends on     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391520" y="2133720"/>
          <a:ext cx="4982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133720"/>
                    <a:ext cx="4982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143000" y="3276720"/>
          <a:ext cx="5029200" cy="80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50292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876920" y="5410080"/>
          <a:ext cx="60948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41008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ments of     of a nonlinear Langevin equation yields two different forms of F-P eq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averaged value of      during the time of noise is used in averaging, it yields the Stratonovich interpretation of F-P eq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629400" y="2133720"/>
          <a:ext cx="4269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133720"/>
                    <a:ext cx="426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71680" y="5410080"/>
          <a:ext cx="80787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5410080"/>
                    <a:ext cx="80787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952880" y="3821040"/>
          <a:ext cx="5335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82104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ngevin equat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value of      before the arrival of the noise is used in averaging, the procedure yields the Ito interpretation of F-P eq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      is never infinitely sharp and it lasts a finite time, the Stratonovich calculus is more appropriate in modeling external noi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429000" y="2133720"/>
          <a:ext cx="533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33720"/>
                    <a:ext cx="533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066680" y="3657600"/>
          <a:ext cx="59436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59436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057400" y="4419720"/>
          <a:ext cx="60948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4419720"/>
                    <a:ext cx="609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wo simulation proced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133720"/>
            <a:ext cx="3505320" cy="622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78440" y="22096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ov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556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429000"/>
            <a:ext cx="0" cy="49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3429000"/>
            <a:ext cx="0" cy="49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962520"/>
            <a:ext cx="19810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9960" y="396252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962520"/>
            <a:ext cx="19810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65960" y="3946680"/>
            <a:ext cx="161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te Car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029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size expans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952880"/>
            <a:ext cx="312408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648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6095880"/>
            <a:ext cx="22100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61563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,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46483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64008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5867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77120" y="6400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rkov proper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andom variable, X(t), is called Markovian if, given X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the values of X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for all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o not depend on the values of X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for all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hematically, for                    , we ha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ion intensity functions can be defined, e.g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 [the system will transfer from state i to state i+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the significance of k is equivalent to the deterministic rate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3276720"/>
          <a:ext cx="144792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276720"/>
                    <a:ext cx="144792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143000" y="3657600"/>
          <a:ext cx="510552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657600"/>
                    <a:ext cx="51055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066680" y="5105520"/>
          <a:ext cx="152424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105520"/>
                    <a:ext cx="1524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nte Carlo Procedur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Gillespie, 1976, 1992; Rajamani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et a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, 1986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oth linear and nonlinear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oth deterministic and stochastic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to be repeated when parameters (transition intensity functions) or initial conditions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long computational time and large disk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te Carlo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-driven method – fixed waiting times, system may or may not undergo tran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4114800"/>
            <a:ext cx="7729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-driven method – varying waiting times, system undergoes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3639960"/>
            <a:ext cx="556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52680" y="3487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14800" y="3487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76920" y="3487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638680" y="3504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400800" y="3504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9200" y="2743200"/>
            <a:ext cx="35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3600" y="2743200"/>
            <a:ext cx="50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5700600"/>
            <a:ext cx="563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819520" y="5181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334120" y="5181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705720" y="5181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65320" y="4933800"/>
            <a:ext cx="35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58920" y="4938840"/>
            <a:ext cx="50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9040" y="5715000"/>
            <a:ext cx="3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18560" y="5715000"/>
            <a:ext cx="47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373392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72120" y="6172200"/>
            <a:ext cx="6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6172200"/>
            <a:ext cx="163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162920" y="3504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90920" y="3504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352680" y="3123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14800" y="3123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76920" y="3123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5791320"/>
            <a:ext cx="5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99600" y="3733920"/>
            <a:ext cx="47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7339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819520" y="5562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334120" y="5562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705720" y="5562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number of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nte Carlo Procedu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-driven procedure is usually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ndom number from a uniform distribution in [0, 1] is used to generate for the prediction of exponentially distributed waiting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cond random number is generated to predict which event takes place (if the process involves more than one possible even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te and clock of the system are upd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dure is repeated until the the process reaches the pre-selected final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dure is repeated from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oments at all times are determ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– example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pidemics (SIR model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+ 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f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to re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linear nature of inf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sca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discuss in detail later in this l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– example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 of a heterogeneous tum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co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i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co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conversions are governed by inter- and intra-phase competitions, thus non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sca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morrow morning’s paper #488-16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050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2568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25680" y="356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– example 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-regulated gene expres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McAdams and Arkin; 1997; 1998; 19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R is close to 1, local fluctuations in protein population may causes unexpected expression, and mutation and disease may fol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equation becomes a valuable tool for such analysis (Bower and Bolouri, ed., “Comp. Modeling of Genetics and Biochemical Networks,” MIT Press, 200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295280" y="2819520"/>
          <a:ext cx="54104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19520"/>
                    <a:ext cx="541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64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– example 3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270160" y="3562200"/>
            <a:ext cx="565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ggle switch model proposed by Gardn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(Nature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39-342, 2000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 1 + protein 2        m RNA 1        protein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 2 + protein 1        m RNA 2        protein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lin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sca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current effo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581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3581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962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3962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1 – Epidemics by SIR mod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ion of master eq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-size expa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by equations derived from mater eq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te Carlo Sim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 equations governing the first and second moments of a nonlinear epidemiology by master equation algorith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e simulation results from the master equation algorithm with those from a representative Monte Carlo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-I-R model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Kermack and McKendrick (1927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3429000"/>
            <a:ext cx="10666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3429000"/>
            <a:ext cx="10666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3429000"/>
            <a:ext cx="10666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1280" y="3251160"/>
            <a:ext cx="40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335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78920" y="3282840"/>
            <a:ext cx="40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5720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+ I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ceptible to infected, a nonlinea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ed to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3640" y="2133720"/>
            <a:ext cx="714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of populations of three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: susceptible,   I: infected,   R: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ysical assumptions: transmission of the inf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8120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in I is proportional to the number of I and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al rate of I is proportional to size of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ubation period neglig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population is con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ochastic model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55600" y="20066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number of suscep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umber of inf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number of remo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of system, or realization of n(t),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= [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t probability distribution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 number of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1981080"/>
            <a:ext cx="7580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and ecological processes usually involve a large number of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handful of variables are usually included in modeling and sim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mping a myriad of variables into a small manageable results in uncertaint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thematical assump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vector, N(t), is Markovi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 (individual undergoing change) is proportional to time inter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 (individual undergoing more than one transition, (t, t+∆t)) =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in the same class have the equal probability of transiting to another cla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ansition intensity fun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018880"/>
            <a:ext cx="8001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 [a particular individual in the susceptible class will become an infected during interval (t, t+Δt) due to a contact with an infecte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 [a particular individual in the infected class will recover during interval (t, t+Δt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676520" y="5791320"/>
          <a:ext cx="152388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791320"/>
                    <a:ext cx="1523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09480" y="3200400"/>
          <a:ext cx="19814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1981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609480" y="3581280"/>
          <a:ext cx="205740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581280"/>
                    <a:ext cx="20574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609480" y="5105520"/>
          <a:ext cx="167652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105520"/>
                    <a:ext cx="16765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93640" y="914040"/>
            <a:ext cx="334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-I-R mode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9481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304812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7200" y="3048120"/>
                <a:ext cx="1676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80880" y="434340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6386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43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80880" y="4343400"/>
                <a:ext cx="1752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138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762120" y="5638680"/>
                <a:ext cx="99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696080" y="4267080"/>
                <a:ext cx="990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3243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362320" y="2666880"/>
                <a:ext cx="44956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3505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971800" y="3962520"/>
                <a:ext cx="3352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3219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666880" y="5257800"/>
                <a:ext cx="4267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Δt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2209680" y="32004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495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5791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3880" y="210816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te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56240" y="2063880"/>
            <a:ext cx="30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robability of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50000" y="205740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te at time t+∆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877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bability balance around the sate (n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,n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,n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530520" y="2527200"/>
                <a:ext cx="40737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606840" y="3594240"/>
                <a:ext cx="3200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606840" y="4737240"/>
                <a:ext cx="4697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Δt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031760" y="2451240"/>
                <a:ext cx="2406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367668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2438280"/>
                <a:ext cx="40194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41148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523880" y="2286000"/>
                <a:ext cx="16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1529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536840" y="2133720"/>
                <a:ext cx="16002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35672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325680" y="2133720"/>
                <a:ext cx="4002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67668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194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89320" y="3200400"/>
                <a:ext cx="3922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460520" y="40892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D is one step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08120" y="47750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f(n)=f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51440" y="47750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=f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10400" y="477504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=f(n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01600" y="990720"/>
            <a:ext cx="78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ster equation with step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lection of expansion parameter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n Kampen (1976, 200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 parameter in the master eq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 criteria, Ω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tal population is proportional to system size, Ω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variance is inversely proportional to the system population, or, the standard deviation in inversely proportional to square root of pop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ystem-size expans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295280" y="20574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Ω Φ(t) + 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358128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Ω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+ 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281952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= Ω θ(t) + 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42670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4800600"/>
            <a:ext cx="6608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are new random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95920" y="5410080"/>
            <a:ext cx="62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Φ, θ, and    – deterministic variabl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scopic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743200" y="5486400"/>
          <a:ext cx="293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48640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743200" y="3657600"/>
          <a:ext cx="293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65760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ystem-size expansion - continu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joint probability of the syst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operat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-hand-side of the master equation becom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943600" y="2057400"/>
                <a:ext cx="1447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3" name=""/>
          <p:cNvGraphicFramePr/>
          <p:nvPr/>
        </p:nvGraphicFramePr>
        <p:xfrm>
          <a:off x="3048120" y="2819520"/>
          <a:ext cx="31525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31525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990720" y="4343400"/>
          <a:ext cx="64008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43400"/>
                    <a:ext cx="64008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croscopic Equ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3844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384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3844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3880" y="2666880"/>
          <a:ext cx="228600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22860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42102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447920" y="4572000"/>
                <a:ext cx="1752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3881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3657600"/>
                <a:ext cx="1905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φ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1000080" y="1828800"/>
            <a:ext cx="672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ng terms of order       in the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057400" y="5562720"/>
          <a:ext cx="129528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562720"/>
                    <a:ext cx="12952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3647520" y="5562720"/>
            <a:ext cx="476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o t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    hav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of magnitu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876920" y="5486400"/>
          <a:ext cx="4032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486400"/>
                    <a:ext cx="4032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867280" y="5562720"/>
          <a:ext cx="37620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562720"/>
                    <a:ext cx="3762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4648320" y="1828800"/>
          <a:ext cx="533160" cy="34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1828800"/>
                    <a:ext cx="5331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na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1981080"/>
            <a:ext cx="7580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and ecological systems often involve discrete entities of different scales,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s, gen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, an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ls, hum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inear Fokker-Planck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523880" y="3048120"/>
                <a:ext cx="4953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+</m:t>
                        </m:r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ψ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3848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90720" y="4800600"/>
                <a:ext cx="2743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373392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495680" y="4876920"/>
                <a:ext cx="33530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φλ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′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θ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θ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603000" y="2057400"/>
            <a:ext cx="81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ng terms of order      from the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equation yields a linear Fokker-Planck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343400" y="2057400"/>
          <a:ext cx="45720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4572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803880" y="4243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riance equ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219320" y="2286000"/>
          <a:ext cx="6324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324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1219320" y="3505320"/>
          <a:ext cx="69339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69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1219320" y="4800600"/>
          <a:ext cx="3276360" cy="69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800600"/>
                    <a:ext cx="32763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quations of covar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219320" y="1981080"/>
          <a:ext cx="586728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58672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1295280" y="3657600"/>
          <a:ext cx="647712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657600"/>
                    <a:ext cx="64771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1295280" y="4876920"/>
          <a:ext cx="769644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7696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mulat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taneously solved in MATLAB for mean, variance and covar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onditions (Murray, 200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0)=76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(0)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(0)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.00218(da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.4403(da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44910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57400" y="538488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4766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81080" y="5880240"/>
                <a:ext cx="46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R system – master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1828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luenza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47242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934320" y="4038480"/>
            <a:ext cx="167616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0280" y="335268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uscepti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1856880" y="60958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+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86400" y="609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-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ect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1854720" y="60958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+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-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cove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1856880" y="60958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+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8640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n-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var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5638680" y="6210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,R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6216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__</a:t>
            </a: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,R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6210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__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,I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3-D representation of stochastic proces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34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nature - continu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1981080"/>
            <a:ext cx="7580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ertainty, or variance, is inversely proportional to the system size,    , i.e.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discrete dynamical systems contain inherent uncertainties, or internal (minimal) fluct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internal fluctuations are prominent when the system size is small, or mesoscop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2819520"/>
          <a:ext cx="167616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1676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629400" y="2438280"/>
          <a:ext cx="3063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438280"/>
                    <a:ext cx="306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te Carlo simu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773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random number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s for the estimation of waiting time (Karlin and Taylor, 1975, 1981; Gillespie, 1977, 199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38080" y="4343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random number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s for identification of the type of trans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295280" y="3352680"/>
          <a:ext cx="281952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28195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295280" y="5334120"/>
          <a:ext cx="198144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334120"/>
                    <a:ext cx="1981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809880" y="5334120"/>
          <a:ext cx="1981440" cy="78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334120"/>
                    <a:ext cx="19814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nte Carlo simulation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s computed in MATLAB for mean, variance and standard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onditions (Murray, 200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0)=76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(0)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(0)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.00218(da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.4403(da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057400" y="5384880"/>
                <a:ext cx="393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4766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981080" y="5880240"/>
                <a:ext cx="46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1447920" y="1917720"/>
          <a:ext cx="647676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17720"/>
                    <a:ext cx="647676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19320" y="457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two simulation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1155600" y="1812960"/>
          <a:ext cx="69217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812960"/>
                    <a:ext cx="69217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1508040" y="488880"/>
            <a:ext cx="717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two simulation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371600" y="1905120"/>
          <a:ext cx="685800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858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1355760" y="412920"/>
            <a:ext cx="73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two simulation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equation is capabl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estimating the evolutions of the mean number of three classes of populations, an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estimating the fluctuations, or the internal noises, around the mean numbers of this nonlinear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te Carlo simulation yields means and fluctuations identical to those from the master eq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lgorithms are highly useful in the analyses of nonlinear stochastic processes in biology and ecology - tomorrow morning’s paper #488-16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3519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linearity of complex processes of population dynamics is a rule rather than an exception.  Transmission of infectious diseases is probably the simplest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to lack of available algorithms for solving nonlinear problems, most prominent works in stochastic modeling of biological processes in the past (Chiang, 1980; Mo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2000; Tan, 2000; Lan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2003) assumed linea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lusions from the characteristics of biological proces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chastic analysis of population dynamics will be valuable, as it yields statistical moments that deterministic models can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algorithms will b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articular inter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jor stochastic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man-Kolmogorov Equation, or master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kker-Planck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evin eq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8:56:35Z</dcterms:created>
  <dc:creator>Ole Miss Chemical Engineering</dc:creator>
  <dc:description/>
  <dc:language>en-US</dc:language>
  <cp:lastModifiedBy>Mark Shows</cp:lastModifiedBy>
  <dcterms:modified xsi:type="dcterms:W3CDTF">2005-01-28T14:50:12Z</dcterms:modified>
  <cp:revision>310</cp:revision>
  <dc:subject/>
  <dc:title>Stochastic Modeling of Nonlinear Epidemiology</dc:title>
</cp:coreProperties>
</file>